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dt" idx="2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ftr" idx="2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 type="sldNum" idx="2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F9A1F-A81D-45F4-B1F6-B843C7E10F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vide a summary of your main findings, and the major relevant points. If possible, include an image that illustrates your resear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E1B9C-84E3-4CB7-8F6C-16E352956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vide relevant background information that helps elucidate your fi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05247A-D8D3-4C3E-AE15-E9B89C0966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your main methods: in a nutshell, what did you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321599-5167-4057-85BD-78FE37264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your main methods: in a nutshell, what did you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FC0E07-263C-49D9-BA86-BD2F4E967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your main methods: in a nutshell, what did you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86AD6-6B31-4385-B9CF-2DDDFE2C1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your main methods: in a nutshell, what did you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AC9BEC-D628-4936-B081-6211B366BB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your main methods: in a nutshell, what did you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3F1BC1-9360-4ADD-BE7C-00E74D7351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your main methods: in a nutshell, what did you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0EAF17-8391-423A-97CD-D9A8BCD97A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lk through your results – what stood out? What surprised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1CE0AA-92F7-4EF1-970B-274D5C64E0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 to describe your results on this second slide if you need mor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62717D-5F6A-4CD9-9816-6E0D21C376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e what you concluded from your findings. Take it back to the “so what?” question – what’s so important about your conclus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CEFDB5-44D1-46E7-8B85-4E8ABA786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 if we are doing a case/control design  - and we are testing for the effect of a specific outcome by testing drug/outcomes pairs where we know the answer.  Reviewing these helps us understand the bia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9E0587-2E83-41D5-B42C-BEEF8B350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tist – implicit belief is a HR of 1000 is just as likely a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96FC5-438B-4F26-943C-0FA4B99953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ability should go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ill allow you to use smaller sample sizes (the kitchen sink approach is not as informative on smaller samp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35E9DC-5CFE-446A-A830-6CC0AF3FD5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230A43-CFDC-4C0D-B11C-2C58F68B8B3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8C484A-1709-4D82-8C4A-6CCB735DB2C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8D2AB9-B3D3-4BCF-8E74-6E74890F38D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53314F-8FB3-4A3A-9B2E-EB9714503A1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B20E09-F7B0-4BCF-9AA9-527AC922659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358EEB-312F-4569-86C0-57A32F55557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0C7AF9-DF32-4C57-AAFD-E18EE0BB01D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10575C-2577-4D91-81FF-E7084E80672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769B92-8400-408B-8CBC-573C3211646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6F7CA-017C-4BCE-89F6-4852E28C1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D9A37-B30B-4BBE-9226-DC23AB95944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9865D-B6A9-49C6-A435-1A95A099532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1A8D6-FF4F-4D20-9BA5-F6A8B7C49CB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76481-0F5A-4E34-BFBA-F5371DF9826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B6F0E-7057-46FE-9AF0-5DABEE26F22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BF4A9-1081-481D-9085-1DBC6B26427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4493B-0F5B-4821-A734-2C46FFBFD89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B99FB-0E32-4C3C-9189-B15B6D48C3F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BC14F-C17B-4271-88D4-5D2BBD0E8E6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B06D3-93AD-4D79-A0A6-CF9F39F4DE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1063B-5CC5-448D-9F3B-221F152B2A9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6B0929-478F-426B-BA98-79086683E09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2DC6B2-3516-420E-A4E3-52D3C4F6ACD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E7EC17-C3ED-49E5-AB70-A8A4F9C8E2E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6482FB-D637-4CE5-B5BD-B01365B4853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28770B-F957-443E-AB0D-608F4A954A5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2EE04A-5E49-4479-80FC-102ADD23148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7B226B-2A6B-4566-A7F0-324DBA4518F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835080-25ED-450F-9F00-043FE9B7BBD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833790-B91F-440C-BD41-C36BC3F20F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63F5-95AE-4295-A824-C504B44A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9C9DBB-9353-4B3D-91A3-A47E7FDCF37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0835DA-74A6-40DE-BC22-C2ACCDA15EA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D31AA0-EB4A-4D01-B5F2-747ED3E0B2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2E2-159A-470E-8635-FBE2F3C9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1E28-EAD7-475C-9D7A-C01A5D53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5340-C099-41BF-BC3D-B75D873C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5037-D68D-4991-98AC-192C74C1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DCAE-C767-4F6D-A011-FFE377A0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996-2061-4334-80E6-472BF366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6513-A199-49F6-9FEB-C2A30FC4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8541-CD84-4497-B9E9-53B4542B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3205-0C1B-443E-9C1C-AD94AB85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5ED7-4752-48B6-A066-3A3AF222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9928-DEFD-4D29-8607-D4586EC3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D801-96E5-44D9-A475-38E2626B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F412-0EEF-486E-81DD-B6BD0B40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235A-7CBC-4C94-AF0C-059E1497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7F2C-677A-4365-9628-CC28EBC4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ED8B-B95A-4EA5-AB57-25C2ED39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3E7B-62EF-4EF5-AF8E-A69EC025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864C-2760-44B2-BAA8-877F1C3C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9DFE-F181-4695-9F94-6A7977A1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5BB9-71FD-427A-B378-7CA95DE9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E4DC-CEC6-402D-AD72-C9155557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AC72-AD5C-47A5-B5DA-C819DE6C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81C8-2E6B-4AB6-A78A-9669A851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4A9EB-0C7E-470D-B6F6-67CDF33E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E2CAE-BF87-4F90-89C6-FC437D5A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E8318-FA4A-46DE-9238-22C19BF1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08907-9CDA-4DA4-BF8A-27E5ADBF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ABA21-6711-47E3-B262-9AEB7C1D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6CBCE-F6FB-4D81-B89A-59EFACEC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03AEC-932C-4535-9C18-AC1EF670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29D61-5F4E-4CFF-8B06-45F9B7EC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AC0ED-27D3-449E-B3AF-A8671D23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B82B8-A68F-4FAC-A247-1018D636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0BF80-6E45-4BDC-9D76-01B812A3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4988C-852A-42B0-AD65-4F6FA5B5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EB21AD-4241-4FDB-9421-AEFA78B7B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A9BDB5-8C26-4CB6-B804-CEFE0DE85CF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678981-E11F-4C60-9298-B7971D54CE6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9FF5E9-A129-4749-9717-9172E7E922F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9DD2BE-EFE2-40C3-BC4C-9DFE1724380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04D47C-F574-44EE-BF8C-395E2ECC72B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907E62-E0C4-4192-990C-7A20E89D304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1FE849-6EBC-4520-9707-39AAFB4A0EB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BC5139-1440-4521-B1D0-3BC46C0C8B0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FA53D4-9F4C-4F36-901E-7D97A2BBC5F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75F246-C899-4775-8608-C8C7A76C3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83DA43-3C19-49BA-A895-D0F2BB4E710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863F80-CF2B-44EB-A480-37BB13B3792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24D998-9E2C-4760-B608-5F7645A6FD4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5232FB-A468-429B-AFFE-438DBD2755B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7FEB97-2038-449C-BEB9-658D448D5F7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4568B9-BD58-4870-879A-488CB89D880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5DEC30-29B2-4F5C-A128-6C23464D3F0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1048E5-3D7A-4ACC-AA6E-C57C1C0B404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AD4809-6E8C-471B-9557-FA05E84D9B7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64F12E-94C1-499C-870B-0526E541B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7C0254-CDBE-4869-9002-883F8CBC05A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FD8E0E-AEAA-4CEB-AB09-605487A7013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A1DD66-40FB-4D78-96A0-AEFC3BE2EFC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EFD20-514F-41C0-BB6D-BD8BEEE7BAC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9C543-D759-413A-93B0-A98F9EB6695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9A9C6-ED15-4C06-AB83-CBEB02978D9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6C5A4-6546-41D9-9C20-3DA555D0B72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AB688-06EB-424D-A63B-591CFDE4755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F7248-56E3-4884-B386-07B50CA662A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F739F-7A34-4456-A532-4407025368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C7B9E-8BA6-4423-8E69-40428912315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0A998-4F63-477C-896B-CC5776A0930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1018C-E8EA-41D4-8990-56CF400D9A8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98D6D-1F18-44C7-86FC-6AA185A636C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2278C-551C-474E-BCE1-396EAC7393A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D9A2EA-6E1E-4743-A21C-3B824BB79EE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A61FEF-69CB-4099-AFD6-D7135D18C41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22F4C2-CCED-4CD4-A1F0-739C6E65F55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E7E952-2FDB-45BE-B4D8-C6992F7D28A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F7923A-3485-41D1-A7CC-7EA425EEF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008E0E-A95B-401F-9957-BD815E3489D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A5274D-1BB6-44C8-8EA6-3E63D27FF36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DE276D-57D3-46C3-9D6C-AA88DC865ED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F4F275-BA66-4208-97F7-97CD7316D90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A6D9FF-11A3-4F3A-B148-99346E1CFD8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2751A3-7E8A-4242-89C3-C7BA34AD883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645D64-2786-4BC1-86C6-D58705E2426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010CC6-5B1C-4DD1-9ABA-821397DECD9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FDDE1A-E570-480D-93D2-33D21AB6E06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07DB65-C238-43BC-B2BD-22BD01DE1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f424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" name="TextBox 11"/>
          <p:cNvSpPr/>
          <p:nvPr/>
        </p:nvSpPr>
        <p:spPr>
          <a:xfrm>
            <a:off x="1402560" y="6278400"/>
            <a:ext cx="26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76b30"/>
                </a:solidFill>
                <a:latin typeface="Arial"/>
              </a:rPr>
              <a:t>The name of your present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453600" y="62784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f4246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11"/>
          <p:cNvSpPr/>
          <p:nvPr/>
        </p:nvSpPr>
        <p:spPr>
          <a:xfrm>
            <a:off x="1402560" y="6278400"/>
            <a:ext cx="26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76b30"/>
                </a:solidFill>
                <a:latin typeface="Arial"/>
              </a:rPr>
              <a:t>The name of your present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3"/>
          <p:cNvSpPr/>
          <p:nvPr/>
        </p:nvSpPr>
        <p:spPr>
          <a:xfrm>
            <a:off x="453600" y="62784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f4246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f424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9C79FD-029D-4249-AEC7-9AA18582527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11"/>
          <p:cNvSpPr/>
          <p:nvPr/>
        </p:nvSpPr>
        <p:spPr>
          <a:xfrm>
            <a:off x="1402560" y="6278400"/>
            <a:ext cx="26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76b30"/>
                </a:solidFill>
                <a:latin typeface="Arial"/>
              </a:rPr>
              <a:t>The name of your present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3"/>
          <p:cNvSpPr/>
          <p:nvPr/>
        </p:nvSpPr>
        <p:spPr>
          <a:xfrm>
            <a:off x="453600" y="62784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f4246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f424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8A9E69-B4DB-48D8-8693-F7804FEFD7F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11"/>
          <p:cNvSpPr/>
          <p:nvPr/>
        </p:nvSpPr>
        <p:spPr>
          <a:xfrm>
            <a:off x="1402560" y="6278400"/>
            <a:ext cx="26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76b30"/>
                </a:solidFill>
                <a:latin typeface="Arial"/>
              </a:rPr>
              <a:t>The name of your present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TextBox 3"/>
          <p:cNvSpPr/>
          <p:nvPr/>
        </p:nvSpPr>
        <p:spPr>
          <a:xfrm>
            <a:off x="453600" y="62784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f4246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f424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1118880" y="6327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8C47A6-63AE-47A3-BDA3-E673F8076F1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1"/>
          <p:cNvSpPr/>
          <p:nvPr/>
        </p:nvSpPr>
        <p:spPr>
          <a:xfrm>
            <a:off x="1402560" y="6278400"/>
            <a:ext cx="26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76b30"/>
                </a:solidFill>
                <a:latin typeface="Arial"/>
              </a:rPr>
              <a:t>The name of your present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453600" y="62784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f4246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f424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1118880" y="6327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B8A9F-8173-46E3-A068-6CCBC034766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1"/>
          <p:cNvSpPr/>
          <p:nvPr/>
        </p:nvSpPr>
        <p:spPr>
          <a:xfrm>
            <a:off x="1402560" y="6278400"/>
            <a:ext cx="26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76b30"/>
                </a:solidFill>
                <a:latin typeface="Arial"/>
              </a:rPr>
              <a:t>The name of your present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453600" y="62784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f4246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f424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118880" y="6327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A3610-F9D5-401A-B112-5447573336D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1"/>
          <p:cNvSpPr/>
          <p:nvPr/>
        </p:nvSpPr>
        <p:spPr>
          <a:xfrm>
            <a:off x="1402560" y="6278400"/>
            <a:ext cx="26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76b30"/>
                </a:solidFill>
                <a:latin typeface="Arial"/>
              </a:rPr>
              <a:t>The name of your present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453600" y="62784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f4246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f424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25D97-2980-45F1-AF33-1CE0AA7B482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1"/>
          <p:cNvSpPr/>
          <p:nvPr/>
        </p:nvSpPr>
        <p:spPr>
          <a:xfrm>
            <a:off x="1402560" y="6278400"/>
            <a:ext cx="26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76b30"/>
                </a:solidFill>
                <a:latin typeface="Arial"/>
              </a:rPr>
              <a:t>The name of your present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453600" y="62784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f4246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f424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5163AD-F99C-446C-806A-28FC726C6DA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1"/>
          <p:cNvSpPr/>
          <p:nvPr/>
        </p:nvSpPr>
        <p:spPr>
          <a:xfrm>
            <a:off x="1402560" y="6278400"/>
            <a:ext cx="26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76b30"/>
                </a:solidFill>
                <a:latin typeface="Arial"/>
              </a:rPr>
              <a:t>The name of your present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453600" y="62784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f4246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f424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1E762C-E856-4B96-B6AE-EEE7EE5F667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11"/>
          <p:cNvSpPr/>
          <p:nvPr/>
        </p:nvSpPr>
        <p:spPr>
          <a:xfrm>
            <a:off x="1402560" y="6278400"/>
            <a:ext cx="26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76b30"/>
                </a:solidFill>
                <a:latin typeface="Arial"/>
              </a:rPr>
              <a:t>The name of your present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3"/>
          <p:cNvSpPr/>
          <p:nvPr/>
        </p:nvSpPr>
        <p:spPr>
          <a:xfrm>
            <a:off x="453600" y="62784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f4246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f424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D5E7B2-5DBE-4EB3-847D-59151C3A955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11"/>
          <p:cNvSpPr/>
          <p:nvPr/>
        </p:nvSpPr>
        <p:spPr>
          <a:xfrm>
            <a:off x="1402560" y="6278400"/>
            <a:ext cx="26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76b30"/>
                </a:solidFill>
                <a:latin typeface="Arial"/>
              </a:rPr>
              <a:t>The name of your present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3"/>
          <p:cNvSpPr/>
          <p:nvPr/>
        </p:nvSpPr>
        <p:spPr>
          <a:xfrm>
            <a:off x="453600" y="62784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f4246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f424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0A7A5E-5ABB-48E3-BA6D-8100117018D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Using Established Knowledge in Population-Level Estimation In a Systematic Way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Jan 11, 2017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OMOP Reference Set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Process for Positive Controls: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Drug product labels that listed condition in the ‘‘Black Box Warning” section, the ‘‘Warnings and Precautions”, or ‘‘Adverse Reactions” sections.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Independent literature review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Systematic literature review provided by Tisdale and Miller book “Drug-Induced Diseases: Prevention, Detection and Management”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3f424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3f4246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Process for Negative Controls: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Same process but looking for a lack of </a:t>
            </a:r>
            <a:br>
              <a:rPr sz="2400"/>
            </a:b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evidence across all sources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</p:txBody>
      </p:sp>
      <p:pic>
        <p:nvPicPr>
          <p:cNvPr id="505" name="Picture 7" descr=""/>
          <p:cNvPicPr/>
          <p:nvPr/>
        </p:nvPicPr>
        <p:blipFill>
          <a:blip r:embed="rId1"/>
          <a:stretch/>
        </p:blipFill>
        <p:spPr>
          <a:xfrm>
            <a:off x="7594560" y="274680"/>
            <a:ext cx="132408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Picture 2" descr="http://synapse-pi.com/new_web/wp-content/uploads/2014/01/EUADR_pagelogo.png"/>
          <p:cNvPicPr/>
          <p:nvPr/>
        </p:nvPicPr>
        <p:blipFill>
          <a:blip r:embed="rId1"/>
          <a:stretch/>
        </p:blipFill>
        <p:spPr>
          <a:xfrm>
            <a:off x="7435800" y="303120"/>
            <a:ext cx="2424240" cy="80640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EU-ADR Reference Set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Exploring and Understanding Adverse Drug Reactions (EU-ADR)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10 conditions (liver disorder, acute myocardial infarction, renal failure, acute, anaphylactic shock, erythema multiform, mitral valve disease, neutropenia, aplastic anemia, rhabdomyolysis, and gastrointestinal hemorrhage)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Across the 10 conditions: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43 are positive controls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50 are negative controls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EU-ADR Reference Set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Conditions considered important from a pharmacovigilance/public health perspective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Drugs needed enough exposure in the EU-ADR database network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Literature review to find associations between drugs and conditions.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Positive Control:  3 drug-ADR association citations found in MEDLINE 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Negative Control:  No literature citations and no World Health Organization (WHO) Vigibase mentions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Manual review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</p:txBody>
      </p:sp>
      <p:pic>
        <p:nvPicPr>
          <p:cNvPr id="513" name="Picture 2" descr="http://synapse-pi.com/new_web/wp-content/uploads/2014/01/EUADR_pagelogo.png"/>
          <p:cNvPicPr/>
          <p:nvPr/>
        </p:nvPicPr>
        <p:blipFill>
          <a:blip r:embed="rId1"/>
          <a:stretch/>
        </p:blipFill>
        <p:spPr>
          <a:xfrm>
            <a:off x="7435800" y="303120"/>
            <a:ext cx="242424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AZCERT Dataset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Arizona Center for Education and Research on Therapeutics (AZCERT)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3f4246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The CredibleMeds group, which manages the AZCERT list, focuses on programs to reduce preventable harm from medication. 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3f4246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This DB focused on two condition: 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Torsade De Pointes (TDP) 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QT Prolongation.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3f424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3f424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Only contains positive controls</a:t>
            </a: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pic>
        <p:nvPicPr>
          <p:cNvPr id="517" name="Picture 5" descr=""/>
          <p:cNvPicPr/>
          <p:nvPr/>
        </p:nvPicPr>
        <p:blipFill>
          <a:blip r:embed="rId1"/>
          <a:stretch/>
        </p:blipFill>
        <p:spPr>
          <a:xfrm>
            <a:off x="7067520" y="27468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(Semi-) Automatic Construction of Prior Knowledge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4"/>
          <p:cNvSpPr/>
          <p:nvPr/>
        </p:nvSpPr>
        <p:spPr>
          <a:xfrm>
            <a:off x="541440" y="3649680"/>
            <a:ext cx="806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ss EA, Boyce RD, Ryan PB, van der Lei J, Rijnbeek PR, Schuemie MJ. Accurac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an Automated Knowledge Base for Identifying Drug Adverse Reactions. J Biom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orm. 2016 Dec 16. pii: S1532-0464(16)30179-4. doi: 10.1016/j.jbi.2016.12.005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Epub ahead of print] PubMed PMID: 2799374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5" descr=""/>
          <p:cNvPicPr/>
          <p:nvPr/>
        </p:nvPicPr>
        <p:blipFill>
          <a:blip r:embed="rId1"/>
          <a:stretch/>
        </p:blipFill>
        <p:spPr>
          <a:xfrm>
            <a:off x="50760" y="1811160"/>
            <a:ext cx="90568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619200" y="1417680"/>
            <a:ext cx="8067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This paper explo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3f4246"/>
                </a:solidFill>
                <a:latin typeface="Arial"/>
              </a:rPr>
              <a:t>[LAERTES] </a:t>
            </a: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a method for </a:t>
            </a:r>
            <a:r>
              <a:rPr b="1" lang="en-US" sz="2400" spc="-1" strike="noStrike">
                <a:solidFill>
                  <a:srgbClr val="3f4246"/>
                </a:solidFill>
                <a:latin typeface="Arial"/>
              </a:rPr>
              <a:t>automatically aggregating </a:t>
            </a: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disparate sources of drug adverse event information together into a single repositor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3f4246"/>
                </a:solidFill>
                <a:latin typeface="Arial"/>
              </a:rPr>
              <a:t>[MAIN RESEARCH] </a:t>
            </a:r>
            <a:r>
              <a:rPr b="1" lang="en-US" sz="2400" spc="-1" strike="noStrike">
                <a:solidFill>
                  <a:srgbClr val="3f4246"/>
                </a:solidFill>
                <a:latin typeface="Arial"/>
              </a:rPr>
              <a:t>developing a predictive model </a:t>
            </a: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to classify drug-adverse event relationship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3f4246"/>
                </a:solidFill>
                <a:latin typeface="Arial"/>
              </a:rPr>
              <a:t>[REAL WORLD APPLICATION] </a:t>
            </a:r>
            <a:r>
              <a:rPr b="1" lang="en-US" sz="2400" spc="-1" strike="noStrike">
                <a:solidFill>
                  <a:srgbClr val="3f4246"/>
                </a:solidFill>
                <a:latin typeface="Arial"/>
              </a:rPr>
              <a:t>applying those predictions </a:t>
            </a: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to a real world problem of identifying negative controls for statistical method calib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3"/>
          <p:cNvSpPr/>
          <p:nvPr/>
        </p:nvSpPr>
        <p:spPr>
          <a:xfrm>
            <a:off x="515880" y="1281240"/>
            <a:ext cx="8170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f4246"/>
                </a:solidFill>
                <a:latin typeface="Arial"/>
              </a:rPr>
              <a:t>Adverse drug reaction </a:t>
            </a: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(ADR) is a response to a drug which is noxious and unintended at a dose that is normally used in humans – form a drug/condition p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There is a </a:t>
            </a:r>
            <a:r>
              <a:rPr b="1" lang="en-US" sz="2800" spc="-1" strike="noStrike">
                <a:solidFill>
                  <a:srgbClr val="3f4246"/>
                </a:solidFill>
                <a:latin typeface="Arial"/>
              </a:rPr>
              <a:t>wide range of data </a:t>
            </a: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available on ADRs however a great </a:t>
            </a:r>
            <a:r>
              <a:rPr b="1" lang="en-US" sz="2800" spc="-1" strike="noStrike">
                <a:solidFill>
                  <a:srgbClr val="3f4246"/>
                </a:solidFill>
                <a:latin typeface="Arial"/>
              </a:rPr>
              <a:t>deal of effort is needed summarize </a:t>
            </a: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for a given drug/condition pa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Aim to produce an </a:t>
            </a:r>
            <a:r>
              <a:rPr b="1" lang="en-US" sz="2800" spc="-1" strike="noStrike">
                <a:solidFill>
                  <a:srgbClr val="3f4246"/>
                </a:solidFill>
                <a:latin typeface="Arial"/>
              </a:rPr>
              <a:t>automated way to harness this information</a:t>
            </a: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, specifically to use in method calib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Methods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pic>
        <p:nvPicPr>
          <p:cNvPr id="530" name="Picture 1" descr=""/>
          <p:cNvPicPr/>
          <p:nvPr/>
        </p:nvPicPr>
        <p:blipFill>
          <a:blip r:embed="rId1"/>
          <a:stretch/>
        </p:blipFill>
        <p:spPr>
          <a:xfrm>
            <a:off x="982800" y="979560"/>
            <a:ext cx="7178400" cy="522288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Methods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pic>
        <p:nvPicPr>
          <p:cNvPr id="533" name="Picture 1" descr=""/>
          <p:cNvPicPr/>
          <p:nvPr/>
        </p:nvPicPr>
        <p:blipFill>
          <a:blip r:embed="rId1"/>
          <a:stretch/>
        </p:blipFill>
        <p:spPr>
          <a:xfrm>
            <a:off x="982800" y="979560"/>
            <a:ext cx="7178400" cy="5222880"/>
          </a:xfrm>
          <a:prstGeom prst="rect">
            <a:avLst/>
          </a:prstGeom>
          <a:ln w="0">
            <a:noFill/>
          </a:ln>
        </p:spPr>
      </p:pic>
      <p:sp>
        <p:nvSpPr>
          <p:cNvPr id="534" name="Rounded Rectangle 1"/>
          <p:cNvSpPr/>
          <p:nvPr/>
        </p:nvSpPr>
        <p:spPr>
          <a:xfrm>
            <a:off x="819000" y="979560"/>
            <a:ext cx="4872240" cy="33606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5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Methods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pic>
        <p:nvPicPr>
          <p:cNvPr id="538" name="Picture 1" descr=""/>
          <p:cNvPicPr/>
          <p:nvPr/>
        </p:nvPicPr>
        <p:blipFill>
          <a:blip r:embed="rId1"/>
          <a:stretch/>
        </p:blipFill>
        <p:spPr>
          <a:xfrm>
            <a:off x="982800" y="979560"/>
            <a:ext cx="7178400" cy="5222880"/>
          </a:xfrm>
          <a:prstGeom prst="rect">
            <a:avLst/>
          </a:prstGeom>
          <a:ln w="0">
            <a:noFill/>
          </a:ln>
        </p:spPr>
      </p:pic>
      <p:sp>
        <p:nvSpPr>
          <p:cNvPr id="539" name="Rounded Rectangle 3"/>
          <p:cNvSpPr/>
          <p:nvPr/>
        </p:nvSpPr>
        <p:spPr>
          <a:xfrm>
            <a:off x="4176720" y="3591000"/>
            <a:ext cx="2428920" cy="2741400"/>
          </a:xfrm>
          <a:custGeom>
            <a:avLst/>
            <a:gdLst>
              <a:gd name="textAreaLeft" fmla="*/ 118440 w 2428920"/>
              <a:gd name="textAreaRight" fmla="*/ 2310480 w 2428920"/>
              <a:gd name="textAreaTop" fmla="*/ 118440 h 2741400"/>
              <a:gd name="textAreaBottom" fmla="*/ 2622960 h 2741400"/>
            </a:gdLst>
            <a:ahLst/>
            <a:rect l="textAreaLeft" t="textAreaTop" r="textAreaRight" b="textAreaBottom"/>
            <a:pathLst>
              <a:path w="21600" h="24378">
                <a:moveTo>
                  <a:pt x="3600" y="0"/>
                </a:moveTo>
                <a:arcTo wR="3600" hR="3600" stAng="16200000" swAng="-5400000"/>
                <a:lnTo>
                  <a:pt x="0" y="20778"/>
                </a:lnTo>
                <a:arcTo wR="3600" hR="3600" stAng="10800000" swAng="-5400000"/>
                <a:lnTo>
                  <a:pt x="18000" y="243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Topics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Approaches in Observational Research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Our Start in Constructing Prior Knowledge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Current Research in Quantifying the Knowledge Gap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Our Future Research on Systematically generating Prior Knowledge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DRUG_HOI_EVIDENCE Table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pic>
        <p:nvPicPr>
          <p:cNvPr id="541" name="Picture 2" descr=""/>
          <p:cNvPicPr/>
          <p:nvPr/>
        </p:nvPicPr>
        <p:blipFill>
          <a:blip r:embed="rId1"/>
          <a:stretch/>
        </p:blipFill>
        <p:spPr>
          <a:xfrm>
            <a:off x="357120" y="2494080"/>
            <a:ext cx="8429760" cy="228276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4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Methods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pic>
        <p:nvPicPr>
          <p:cNvPr id="545" name="Picture 1" descr=""/>
          <p:cNvPicPr/>
          <p:nvPr/>
        </p:nvPicPr>
        <p:blipFill>
          <a:blip r:embed="rId1"/>
          <a:stretch/>
        </p:blipFill>
        <p:spPr>
          <a:xfrm>
            <a:off x="982800" y="979560"/>
            <a:ext cx="7178400" cy="5222880"/>
          </a:xfrm>
          <a:prstGeom prst="rect">
            <a:avLst/>
          </a:prstGeom>
          <a:ln w="0">
            <a:noFill/>
          </a:ln>
        </p:spPr>
      </p:pic>
      <p:sp>
        <p:nvSpPr>
          <p:cNvPr id="546" name="Rounded Rectangle 3"/>
          <p:cNvSpPr/>
          <p:nvPr/>
        </p:nvSpPr>
        <p:spPr>
          <a:xfrm>
            <a:off x="4176720" y="3591000"/>
            <a:ext cx="2428920" cy="2741400"/>
          </a:xfrm>
          <a:custGeom>
            <a:avLst/>
            <a:gdLst>
              <a:gd name="textAreaLeft" fmla="*/ 118440 w 2428920"/>
              <a:gd name="textAreaRight" fmla="*/ 2310480 w 2428920"/>
              <a:gd name="textAreaTop" fmla="*/ 118440 h 2741400"/>
              <a:gd name="textAreaBottom" fmla="*/ 2622960 h 2741400"/>
            </a:gdLst>
            <a:ahLst/>
            <a:rect l="textAreaLeft" t="textAreaTop" r="textAreaRight" b="textAreaBottom"/>
            <a:pathLst>
              <a:path w="21600" h="24378">
                <a:moveTo>
                  <a:pt x="3600" y="0"/>
                </a:moveTo>
                <a:arcTo wR="3600" hR="3600" stAng="16200000" swAng="-5400000"/>
                <a:lnTo>
                  <a:pt x="0" y="20778"/>
                </a:lnTo>
                <a:arcTo wR="3600" hR="3600" stAng="10800000" swAng="-5400000"/>
                <a:lnTo>
                  <a:pt x="18000" y="243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Oval 2"/>
          <p:cNvSpPr/>
          <p:nvPr/>
        </p:nvSpPr>
        <p:spPr>
          <a:xfrm>
            <a:off x="4525920" y="5308560"/>
            <a:ext cx="1789200" cy="95904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ERTES UNIVER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Methods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pic>
        <p:nvPicPr>
          <p:cNvPr id="550" name="Picture 1" descr=""/>
          <p:cNvPicPr/>
          <p:nvPr/>
        </p:nvPicPr>
        <p:blipFill>
          <a:blip r:embed="rId1"/>
          <a:stretch/>
        </p:blipFill>
        <p:spPr>
          <a:xfrm>
            <a:off x="982800" y="979560"/>
            <a:ext cx="7178400" cy="5222880"/>
          </a:xfrm>
          <a:prstGeom prst="rect">
            <a:avLst/>
          </a:prstGeom>
          <a:ln w="0">
            <a:noFill/>
          </a:ln>
        </p:spPr>
      </p:pic>
      <p:sp>
        <p:nvSpPr>
          <p:cNvPr id="551" name="Rounded Rectangle 3"/>
          <p:cNvSpPr/>
          <p:nvPr/>
        </p:nvSpPr>
        <p:spPr>
          <a:xfrm>
            <a:off x="6359400" y="2104920"/>
            <a:ext cx="1801800" cy="3954600"/>
          </a:xfrm>
          <a:custGeom>
            <a:avLst/>
            <a:gdLst>
              <a:gd name="textAreaLeft" fmla="*/ 87840 w 1801800"/>
              <a:gd name="textAreaRight" fmla="*/ 1713960 w 1801800"/>
              <a:gd name="textAreaTop" fmla="*/ 87840 h 3954600"/>
              <a:gd name="textAreaBottom" fmla="*/ 3866760 h 3954600"/>
            </a:gdLst>
            <a:ahLst/>
            <a:rect l="textAreaLeft" t="textAreaTop" r="textAreaRight" b="textAreaBottom"/>
            <a:pathLst>
              <a:path w="21600" h="47403">
                <a:moveTo>
                  <a:pt x="3600" y="0"/>
                </a:moveTo>
                <a:arcTo wR="3600" hR="3600" stAng="16200000" swAng="-5400000"/>
                <a:lnTo>
                  <a:pt x="0" y="43803"/>
                </a:lnTo>
                <a:arcTo wR="3600" hR="3600" stAng="10800000" swAng="-5400000"/>
                <a:lnTo>
                  <a:pt x="18000" y="474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2"/>
          <p:cNvSpPr/>
          <p:nvPr/>
        </p:nvSpPr>
        <p:spPr>
          <a:xfrm>
            <a:off x="768240" y="1219320"/>
            <a:ext cx="5168880" cy="4757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gistic regressi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 used to build multivariate models on the LAERTES data that coul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scriminate between positive and negative control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Regularization with a Laplace prior on the regression coefficients was used to allow the model to perform parameter selec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s given to mode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line Clinical T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line Case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line 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mMedDB Clinical T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mMedDB Case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U Product Lab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 Product Lab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ERS PR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Right Arrow 4"/>
          <p:cNvSpPr/>
          <p:nvPr/>
        </p:nvSpPr>
        <p:spPr>
          <a:xfrm>
            <a:off x="5205240" y="4702320"/>
            <a:ext cx="1546560" cy="1095120"/>
          </a:xfrm>
          <a:prstGeom prst="rightArrow">
            <a:avLst>
              <a:gd name="adj1" fmla="val 50000"/>
              <a:gd name="adj2" fmla="val 50023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4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Methods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600200"/>
            <a:ext cx="82296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First built a model and evaluated performance on individual reference sets EU-ADR and OMOP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Second built a model on the combination of EU-ADR and OMOP and evaluated performance on a third reference set AZCERT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</p:txBody>
      </p:sp>
      <p:pic>
        <p:nvPicPr>
          <p:cNvPr id="558" name="Picture 1" descr=""/>
          <p:cNvPicPr/>
          <p:nvPr/>
        </p:nvPicPr>
        <p:blipFill>
          <a:blip r:embed="rId1"/>
          <a:stretch/>
        </p:blipFill>
        <p:spPr>
          <a:xfrm>
            <a:off x="835200" y="4371840"/>
            <a:ext cx="751824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Results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60" name="Rectangle 10"/>
          <p:cNvSpPr/>
          <p:nvPr/>
        </p:nvSpPr>
        <p:spPr>
          <a:xfrm>
            <a:off x="668160" y="1177920"/>
            <a:ext cx="801864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LAERTES had nearly 8 millions rows of evi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f4246"/>
                </a:solidFill>
                <a:latin typeface="Arial"/>
              </a:rPr>
              <a:t>3797 distinct ingredi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f4246"/>
                </a:solidFill>
                <a:latin typeface="Arial"/>
              </a:rPr>
              <a:t>9403 distinct cond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LAERTES Unive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f4246"/>
                </a:solidFill>
                <a:latin typeface="Arial"/>
              </a:rPr>
              <a:t>992 distinct ingredi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f4246"/>
                </a:solidFill>
                <a:latin typeface="Arial"/>
              </a:rPr>
              <a:t>3488 distinct cond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The model performed well on predicting the reference sets [AUC (95% CI)]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f4246"/>
                </a:solidFill>
                <a:latin typeface="Arial"/>
              </a:rPr>
              <a:t>OMOP </a:t>
            </a:r>
            <a:r>
              <a:rPr b="0" lang="en-US" sz="2000" spc="-1" strike="noStrike">
                <a:solidFill>
                  <a:srgbClr val="3f424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f4246"/>
                </a:solidFill>
                <a:latin typeface="Arial"/>
              </a:rPr>
              <a:t>– 0.93 (0.86-0.9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f4246"/>
                </a:solidFill>
                <a:latin typeface="Arial"/>
              </a:rPr>
              <a:t>EU-ADR </a:t>
            </a:r>
            <a:r>
              <a:rPr b="0" lang="en-US" sz="2000" spc="-1" strike="noStrike">
                <a:solidFill>
                  <a:srgbClr val="3f424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f4246"/>
                </a:solidFill>
                <a:latin typeface="Arial"/>
              </a:rPr>
              <a:t>– 0.92 (0.86-0.9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f4246"/>
                </a:solidFill>
                <a:latin typeface="Arial"/>
              </a:rPr>
              <a:t>AZCERT </a:t>
            </a:r>
            <a:r>
              <a:rPr b="0" lang="en-US" sz="2000" spc="-1" strike="noStrike">
                <a:solidFill>
                  <a:srgbClr val="3f424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f4246"/>
                </a:solidFill>
                <a:latin typeface="Arial"/>
              </a:rPr>
              <a:t>– 0.92 (0.89-0.9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460440" y="1523880"/>
            <a:ext cx="8404200" cy="404172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Results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ounded Rectangle 1"/>
          <p:cNvSpPr/>
          <p:nvPr/>
        </p:nvSpPr>
        <p:spPr>
          <a:xfrm>
            <a:off x="5554800" y="1806480"/>
            <a:ext cx="2155680" cy="110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uvoxamine later added to the li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4"/>
          <p:cNvSpPr/>
          <p:nvPr/>
        </p:nvSpPr>
        <p:spPr>
          <a:xfrm>
            <a:off x="592200" y="1278000"/>
            <a:ext cx="8094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LAERTES data was predictive of the reference 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Method provides a scalable alternative to the time/resource-intensive manual curation process of reference sets of positive/negative used in drug safety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urrent Research Project: </a:t>
            </a:r>
            <a:br>
              <a:rPr sz="4000"/>
            </a:br>
            <a:r>
              <a:rPr b="0" lang="en-US" sz="3200" spc="-1" strike="noStrike">
                <a:solidFill>
                  <a:srgbClr val="e76b30"/>
                </a:solidFill>
                <a:latin typeface="Arial"/>
              </a:rPr>
              <a:t>Finding the Knowledge Gap in Literature</a:t>
            </a:r>
            <a:endParaRPr b="0" lang="en-US" sz="32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Now that we are extracting knowledge, we want to learn what evidence already exists and what evidence does not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This will start to give us a better feel for how to extract evidence as prior knowledge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Use of Prior Knowledge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Prior knowledge can be used in (at least) two ways: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As a reference set in an empirical evaluation, to measure how unbiased a method really is (previous work group meeting presentation by Martijn)</a:t>
            </a: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To formulate explicit prior distributions in our models</a:t>
            </a:r>
            <a:br>
              <a:rPr sz="2800"/>
            </a:b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(future research project)</a:t>
            </a: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Frequentist vs </a:t>
            </a:r>
            <a:br>
              <a:rPr sz="4000"/>
            </a:b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Bayesian Approaches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f4246"/>
                </a:solidFill>
                <a:latin typeface="Arial"/>
              </a:rPr>
              <a:t>Frequentists Statistics </a:t>
            </a: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– there is no prior belief, for example about effect size, any result is deemed equally likely.  </a:t>
            </a: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f4246"/>
                </a:solidFill>
                <a:latin typeface="Arial"/>
              </a:rPr>
              <a:t>Bayesian Statistics </a:t>
            </a: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– here there is a prior belief and some results are deemed more likely than others.  The evidence generated by a study can modified our prior belief into a posterior.</a:t>
            </a: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Two Approaches to </a:t>
            </a:r>
            <a:br>
              <a:rPr sz="4000"/>
            </a:b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Observational Research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f4246"/>
                </a:solidFill>
                <a:latin typeface="Arial"/>
              </a:rPr>
              <a:t>Traditional Epi Approach:</a:t>
            </a:r>
            <a:br>
              <a:rPr sz="2400"/>
            </a:b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An expert defines the study design, including the covariates, and asserts that the results would be unbiased.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3f4246"/>
                </a:solidFill>
                <a:latin typeface="Arial"/>
              </a:rPr>
              <a:t>Expert knowledge driven approach</a:t>
            </a:r>
            <a:br>
              <a:rPr sz="2400"/>
            </a:br>
            <a:r>
              <a:rPr b="0" i="1" lang="en-US" sz="2400" spc="-1" strike="noStrike">
                <a:solidFill>
                  <a:srgbClr val="3f424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f4246"/>
                </a:solidFill>
                <a:latin typeface="Arial"/>
              </a:rPr>
              <a:t>OMOP/OHDSI Approach:</a:t>
            </a:r>
            <a:br>
              <a:rPr sz="2400"/>
            </a:b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Try all designs and covariates, let the data decide.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3f4246"/>
                </a:solidFill>
                <a:latin typeface="Arial"/>
              </a:rPr>
              <a:t>Data driven approach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Example of </a:t>
            </a:r>
            <a:br>
              <a:rPr sz="4000"/>
            </a:b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Building Propensity Score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595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Experts picking what goes into the model</a:t>
            </a:r>
            <a:br>
              <a:rPr sz="2400"/>
            </a:br>
            <a:r>
              <a:rPr b="0" i="1" lang="en-US" sz="2400" spc="-1" strike="noStrike">
                <a:solidFill>
                  <a:srgbClr val="3f4246"/>
                </a:solidFill>
                <a:latin typeface="Arial"/>
              </a:rPr>
              <a:t>(e.g. Expert says “smoking is a risk factor for lung cancer”)</a:t>
            </a:r>
            <a:br>
              <a:rPr sz="2400"/>
            </a:br>
            <a:r>
              <a:rPr b="0" i="1" lang="en-US" sz="2400" spc="-1" strike="noStrike">
                <a:solidFill>
                  <a:srgbClr val="3f424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Throwing everything into the model</a:t>
            </a:r>
            <a:br>
              <a:rPr sz="2400"/>
            </a:br>
            <a:r>
              <a:rPr b="0" i="1" lang="en-US" sz="2400" spc="-1" strike="noStrike">
                <a:solidFill>
                  <a:srgbClr val="3f4246"/>
                </a:solidFill>
                <a:latin typeface="Arial"/>
              </a:rPr>
              <a:t>(e.g. the model would need to learn that smoking is a risk factor for lung cancer)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Still throw everything into the model but use an informed prior to help the model learn </a:t>
            </a:r>
            <a:br>
              <a:rPr sz="2400"/>
            </a:br>
            <a:r>
              <a:rPr b="0" i="1" lang="en-US" sz="2400" spc="-1" strike="noStrike">
                <a:solidFill>
                  <a:srgbClr val="3f4246"/>
                </a:solidFill>
                <a:latin typeface="Arial"/>
              </a:rPr>
              <a:t>(e.g. make the prior for smoking and lung cancer would be given a high probability)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3330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f4246"/>
                </a:solidFill>
                <a:latin typeface="Arial"/>
              </a:rPr>
              <a:t>Where we have come from:</a:t>
            </a:r>
            <a:br>
              <a:rPr sz="2400"/>
            </a:b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Not having an automated approach to utilize prior knowledge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f4246"/>
                </a:solidFill>
                <a:latin typeface="Arial"/>
              </a:rPr>
              <a:t>What we can do currently:</a:t>
            </a:r>
            <a:br>
              <a:rPr sz="2400"/>
            </a:b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Using an automated approach to identify known drug/outcome relationships (aka negative controls) to calibrate our methods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f4246"/>
                </a:solidFill>
                <a:latin typeface="Arial"/>
              </a:rPr>
              <a:t>What we are working on now:</a:t>
            </a:r>
            <a:br>
              <a:rPr sz="2400"/>
            </a:b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Improving our evidence extraction by exploring the evidence gap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f4246"/>
                </a:solidFill>
                <a:latin typeface="Arial"/>
              </a:rPr>
              <a:t>Where we want to go:</a:t>
            </a:r>
            <a:br>
              <a:rPr sz="2400"/>
            </a:b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Using systematically generated prior knowledge to inform prior distributions in our models.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Best of Both Worlds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Could we combine prior knowledge with a data driven approach?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4" marL="1851480" indent="-205560">
              <a:spcBef>
                <a:spcPts val="499"/>
              </a:spcBef>
              <a:buClr>
                <a:srgbClr val="3f4246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3f4246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We do not want to rely on a single expert to provide us the prior knowledge</a:t>
            </a: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  <a:p>
            <a:pPr lvl="4" marL="1851480" indent="-205560">
              <a:spcBef>
                <a:spcPts val="499"/>
              </a:spcBef>
              <a:buClr>
                <a:srgbClr val="3f4246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3f4246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The data driven approach may not always be interpretable given covariates or sample size</a:t>
            </a: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  <a:p>
            <a:pPr lvl="3" marL="1440000" indent="-205560">
              <a:spcBef>
                <a:spcPts val="499"/>
              </a:spcBef>
              <a:buClr>
                <a:srgbClr val="3f4246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3f4246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There needs to be a systematic way to capture and represent prior knowledge</a:t>
            </a: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What does structured knowledge look like in this context?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Drug A causes/does not cause Condition B </a:t>
            </a:r>
            <a:br>
              <a:rPr sz="3200"/>
            </a:b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Covariate C causes/does not cause Condition B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Both may be expressed as probabilities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onstructing Prior Knowledge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We can construct systematic representation of prior knowledge about causal effects by:</a:t>
            </a:r>
            <a:br>
              <a:rPr sz="3200"/>
            </a:b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Manual construction of reference sets</a:t>
            </a: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(Semi-) Automatic construction by using a statistical model synthesizing available evidence</a:t>
            </a: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Reference Sets – Example of Structured Knowledge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f4246"/>
                </a:solidFill>
                <a:latin typeface="Arial"/>
              </a:rPr>
              <a:t>List of drugs and condition pairs that are either considered:</a:t>
            </a:r>
            <a:endParaRPr b="0" lang="en-US" sz="3600" spc="-1" strike="noStrike">
              <a:solidFill>
                <a:srgbClr val="3f424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f424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Positive Controls: in an adverse event relationship 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f4246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Negative Controls:  not in an adverse event relationship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Box 4"/>
          <p:cNvSpPr/>
          <p:nvPr/>
        </p:nvSpPr>
        <p:spPr>
          <a:xfrm>
            <a:off x="169920" y="415440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Examples of Manually </a:t>
            </a:r>
            <a:br>
              <a:rPr sz="4000"/>
            </a:b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onstructed Reference Sets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OMOP Reference Set</a:t>
            </a: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EU-ADR Reference Set</a:t>
            </a: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AZCERT Dataset</a:t>
            </a: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</p:txBody>
      </p:sp>
      <p:pic>
        <p:nvPicPr>
          <p:cNvPr id="495" name="Picture 4" descr=""/>
          <p:cNvPicPr/>
          <p:nvPr/>
        </p:nvPicPr>
        <p:blipFill>
          <a:blip r:embed="rId1"/>
          <a:stretch/>
        </p:blipFill>
        <p:spPr>
          <a:xfrm>
            <a:off x="5948280" y="1816200"/>
            <a:ext cx="1324080" cy="10094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" descr="http://synapse-pi.com/new_web/wp-content/uploads/2014/01/EUADR_pagelogo.png"/>
          <p:cNvPicPr/>
          <p:nvPr/>
        </p:nvPicPr>
        <p:blipFill>
          <a:blip r:embed="rId2"/>
          <a:stretch/>
        </p:blipFill>
        <p:spPr>
          <a:xfrm>
            <a:off x="5805360" y="3057480"/>
            <a:ext cx="2424240" cy="8049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6" descr=""/>
          <p:cNvPicPr/>
          <p:nvPr/>
        </p:nvPicPr>
        <p:blipFill>
          <a:blip r:embed="rId3"/>
          <a:stretch/>
        </p:blipFill>
        <p:spPr>
          <a:xfrm>
            <a:off x="5729400" y="3852720"/>
            <a:ext cx="175248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OMOP Reference Set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4 conditions (acute kidney injury, acute liver injury, acute myocardial infarction, and gastrointestinal bleed)</a:t>
            </a:r>
            <a:br>
              <a:rPr sz="3200"/>
            </a:b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Across the 4 conditions: 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3f4246"/>
                </a:solidFill>
                <a:latin typeface="Arial"/>
              </a:rPr>
              <a:t>165 positive controls (drugs that are known to cause a condition, ground truth is 1)</a:t>
            </a:r>
            <a:endParaRPr b="0" lang="en-US" sz="26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3f4246"/>
                </a:solidFill>
                <a:latin typeface="Arial"/>
              </a:rPr>
              <a:t>234 are negative controls (drugs that are known </a:t>
            </a:r>
            <a:br>
              <a:rPr sz="2600"/>
            </a:br>
            <a:r>
              <a:rPr b="0" lang="en-US" sz="2600" spc="-1" strike="noStrike">
                <a:solidFill>
                  <a:srgbClr val="3f4246"/>
                </a:solidFill>
                <a:latin typeface="Arial"/>
              </a:rPr>
              <a:t>to not cause the condition, ground truth is 0).</a:t>
            </a:r>
            <a:endParaRPr b="0" lang="en-US" sz="2600" spc="-1" strike="noStrike">
              <a:solidFill>
                <a:srgbClr val="3f4246"/>
              </a:solidFill>
              <a:latin typeface="Arial"/>
            </a:endParaRPr>
          </a:p>
        </p:txBody>
      </p:sp>
      <p:pic>
        <p:nvPicPr>
          <p:cNvPr id="501" name="Picture 6" descr=""/>
          <p:cNvPicPr/>
          <p:nvPr/>
        </p:nvPicPr>
        <p:blipFill>
          <a:blip r:embed="rId1"/>
          <a:stretch/>
        </p:blipFill>
        <p:spPr>
          <a:xfrm>
            <a:off x="7594560" y="274680"/>
            <a:ext cx="132408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1T07:51:27Z</dcterms:created>
  <dc:creator>Lucy Goodchild</dc:creator>
  <dc:description/>
  <dc:language>en-US</dc:language>
  <cp:lastModifiedBy>Voss, Erica [JRDUS]</cp:lastModifiedBy>
  <dcterms:modified xsi:type="dcterms:W3CDTF">2017-01-11T00:02:52Z</dcterms:modified>
  <cp:revision>93</cp:revision>
  <dc:subject/>
  <dc:title>Self-belief saves socks</dc:title>
</cp:coreProperties>
</file>